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C6C-9248-4AF2-A314-B3EB3340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E71-EF1A-44C2-B736-E2E9BCBA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6D8-2403-456E-8371-716EFD7B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39D-3555-44BF-A139-CD330DD3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F75-25DC-4B12-B899-61341FEE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78B-AB25-464E-8926-4FD737A3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582-A7C0-443C-BA2B-5926FA4A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810-53F7-408F-8E55-38997236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DAC-0FAD-40A1-93F2-A69C99C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944-438A-441D-BCEE-34919CC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BC7-4F3A-4FE6-AA5E-1D0D6E0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F0A-120A-49F2-A7D3-1A914ABF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951-D853-467C-A86E-A41608ED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er Schoo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rsessio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istrict 6                      Operations Meeting               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7400" y="2438280"/>
            <a:ext cx="331632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bur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ma Vista &amp; May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enc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iotrop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ton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ra &amp;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fic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mes &amp; Vernon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y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chool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249732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Gate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ast 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Int’l Studie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East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Gate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wood AHS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chool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91320" y="4518000"/>
            <a:ext cx="28018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2a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Program Code 123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on for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idd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s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873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a16"/>
                </a:solidFill>
                <a:latin typeface="Arial"/>
              </a:rPr>
              <a:t>nancy.robinson @ lausd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323) 278-398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3413160"/>
            <a:ext cx="35352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August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35268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p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3 – April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summer.lausd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238464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3846600"/>
            <a:ext cx="29383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-Ch-Ch-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2860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6019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Summer School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nger Academic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 of Math in Grades 2 &amp;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Elementary Classes 2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Supervision Aide for seco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Assistant Principal for high schools over 1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ustodial Over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paid preparation h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2 – 5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Ar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Eligibility  for voluntary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B or BB in ELA or Math,      Final Reading or Math mark of 1,  1 on Unit 3 PWA,                          SOAR Unit 3 Compreh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upervision A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2490840" cy="354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6 –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ial Cours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upervision A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or 150 incoming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flipH="1">
            <a:off x="6019560" y="3276720"/>
            <a:ext cx="24145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9 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ar Pacing Plans &amp;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P over 150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ervision A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or 1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551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30.0  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70   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8.0  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9.0 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2963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and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and 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4120" y="3556080"/>
            <a:ext cx="3227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20:49:52Z</dcterms:created>
  <dc:creator>Ron Robinson</dc:creator>
  <dc:description/>
  <dc:language>en-US</dc:language>
  <cp:lastModifiedBy>Nancy Robinson</cp:lastModifiedBy>
  <dcterms:modified xsi:type="dcterms:W3CDTF">2009-03-10T20:37:13Z</dcterms:modified>
  <cp:revision>6</cp:revision>
  <dc:subject/>
  <dc:title>Summer School  2009</dc:title>
</cp:coreProperties>
</file>